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8E48-788A-40B8-A945-4575E4FB0C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рода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CEA9-DF20-4058-AB66-6792439BD3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CDC2-65CE-4BDE-86E6-BA382899D8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Экологические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и различный мусор попадают в море и загрязняют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C978-D884-443A-B34C-64BC173D2F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Человек у мо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BFB5-DAA6-4EE1-B60A-FAE316E1A4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чвы Черноморского побережья Кавказа плодородны, а растительность богата</a:t>
            </a:r>
            <a:r>
              <a:rPr b="1" lang="ru-RU" sz="10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AA7B-8B78-4CE6-AEA6-4591800960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Растения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ах на склонах гор растут широколиственные деревья – дуб, бук, каштан настоя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2EBE-944E-42F3-A010-21E7D76866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0746-94D7-4594-9FC8-7D2BD2226A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дах зреют грецкие орехи, инжир, абрикосы, перс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A582-6843-4B5B-9B30-B6D54991E4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Животный мир Черноморского побережья Кавказа очень разнообразен</a:t>
            </a:r>
            <a:r>
              <a:rPr b="1" lang="ru-RU" sz="1100" spc="-1" strike="noStrike">
                <a:solidFill>
                  <a:srgbClr val="00b050"/>
                </a:solidFill>
                <a:latin typeface="Calibri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ека слышны стрекота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икад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итаются соком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3FFE-F1FD-445C-B110-9EA3034C07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зеленых листь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чется хищ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гомол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жи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у – мух 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й крупный ж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казская жужел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ется ули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8423-D0AD-4EC4-B291-821FD00584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берегу моря живут чайки, бакланы, которые кормятся ры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DEFD-E0DC-4C48-93E2-280D0CD1DF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Морские обит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д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ие иг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ой конё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ьф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917B-36D1-458D-806E-F8E884799E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FD4-C3DD-420A-B78D-BA4BBD68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2A6-3330-42CB-9E21-2C1E7E03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83A-3B93-4418-BC82-0E55A08C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13B-D1D3-4BD9-92E4-2C17CC4D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554-1AAF-4D7E-8FF2-DEF0E417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022-24E1-4DB4-AEA7-78FE0E42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8EF-83E5-4D0E-AC11-7851D222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335-B461-4706-A92B-367BB3E5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A4F-19FE-4067-BAB2-668AD7BF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6AB-3DC6-43F9-AFF4-372E037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A70-1E5D-45E3-AC29-A7357194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216-9978-48A5-8F7C-F1C8517D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036A-CFDB-4117-97BC-66F684878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а Черноморского побережья Кавк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892080" y="5268960"/>
            <a:ext cx="64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лотников Данила  4 «А»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расная кни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09480" y="3352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с яг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80988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905120" y="5791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же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78168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ш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5627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328760" y="4114800"/>
            <a:ext cx="22525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2482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3"/>
          <a:stretch/>
        </p:blipFill>
        <p:spPr>
          <a:xfrm>
            <a:off x="3429000" y="17524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4"/>
          <a:stretch/>
        </p:blipFill>
        <p:spPr>
          <a:xfrm>
            <a:off x="6286680" y="1752480"/>
            <a:ext cx="209520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5"/>
          <a:stretch/>
        </p:blipFill>
        <p:spPr>
          <a:xfrm>
            <a:off x="419040" y="1752480"/>
            <a:ext cx="2438640" cy="14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Экологически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чные воды и различный мусор попадают в море и загрязняют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819520"/>
            <a:ext cx="822960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, приезжающие сюда              отдыхать, не всегда относятся к природе бере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Человек у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Users\Оксана\Desktop\Рисунок3.jpg"/>
          <p:cNvPicPr/>
          <p:nvPr/>
        </p:nvPicPr>
        <p:blipFill>
          <a:blip r:embed="rId1"/>
          <a:stretch/>
        </p:blipFill>
        <p:spPr>
          <a:xfrm>
            <a:off x="1371600" y="4038480"/>
            <a:ext cx="6113520" cy="24242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2280" y="16765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чвы Черноморского побережья Кавказа плодородны, а растительность богата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астения Черноморского побережья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6640" y="55627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ах на склонах гор растут широколиственные деревья – дуб, бук, каштан настоящ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963720" y="487044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097760" y="483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6573960" y="1906560"/>
            <a:ext cx="2417760" cy="2927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333600" y="1857240"/>
            <a:ext cx="2914920" cy="2976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297000" y="1857240"/>
            <a:ext cx="2759040" cy="2976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4493160" y="49165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4296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81280" y="5867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о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580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429000" y="2279520"/>
            <a:ext cx="2666880" cy="3368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380880" y="2270160"/>
            <a:ext cx="2819520" cy="3308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6248520" y="2279520"/>
            <a:ext cx="2743200" cy="3368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дах зреют грецкие орехи, инжир, абрикосы, перс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714960" y="48769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2676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4348080" y="4876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7398360" y="4876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Животный мир Черноморского побережья Кавказа очень разнообразен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лека слышны стрекот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ад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итаются соком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Оксана\Desktop\Рисунок7.jpg"/>
          <p:cNvPicPr/>
          <p:nvPr/>
        </p:nvPicPr>
        <p:blipFill>
          <a:blip r:embed="rId1"/>
          <a:stretch/>
        </p:blipFill>
        <p:spPr>
          <a:xfrm>
            <a:off x="2414520" y="3213000"/>
            <a:ext cx="4403880" cy="27194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23800" y="3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зеленых лист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чется хищ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омол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жи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ычу – мух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крупный ж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вказская жуже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ется ули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282888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егу моря живут чайки, бакланы, которые кормятся ры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57480" y="5592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095880" y="5791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04812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200400" cy="271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рские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010280" y="6305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143240" y="51879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811080" y="6305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ие и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193760" y="3429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00800" y="3429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ой кон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534000" y="4343400"/>
            <a:ext cx="1955880" cy="1962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851040" y="1447920"/>
            <a:ext cx="1904760" cy="1935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3"/>
          <a:stretch/>
        </p:blipFill>
        <p:spPr>
          <a:xfrm>
            <a:off x="3838680" y="2971800"/>
            <a:ext cx="1904760" cy="2075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4"/>
          <a:stretch/>
        </p:blipFill>
        <p:spPr>
          <a:xfrm>
            <a:off x="851040" y="43434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5"/>
          <a:stretch/>
        </p:blipFill>
        <p:spPr>
          <a:xfrm>
            <a:off x="6534000" y="1447920"/>
            <a:ext cx="195588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</dc:creator>
  <dc:description/>
  <dc:language>en-US</dc:language>
  <cp:lastModifiedBy>LEGION2</cp:lastModifiedBy>
  <dcterms:modified xsi:type="dcterms:W3CDTF">2015-04-24T09:21:1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